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C8C-9B1C-48D3-B10F-F098EF0F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3C5-2EE5-471B-8427-661CFD16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AA1-0E22-40CC-A579-ADDA5761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1B8-0412-4303-853C-5847BA45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992-B7EB-4A45-AA9B-C46CAF6D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D30-215E-48F0-9195-DE1F4F77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08E-7A57-4593-B544-78B64416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FB5-226B-431B-8118-E1719314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98F-C4A4-4AA7-B947-B0CC8E5C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12F-4F91-48C2-978E-8127E8A9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745-22B1-487E-BDFC-2655125F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91D-B048-420F-A430-00B8F062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983F-37DA-4A9A-9D29-13340FA6D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5:05:10Z</dcterms:created>
  <dc:creator>Gene Hamrick</dc:creator>
  <dc:description/>
  <dc:language>en-US</dc:language>
  <cp:lastModifiedBy>Gene Hamrick</cp:lastModifiedBy>
  <dcterms:modified xsi:type="dcterms:W3CDTF">2010-11-29T15:06:15Z</dcterms:modified>
  <cp:revision>2</cp:revision>
  <dc:subject/>
  <dc:title>Internet Safety</dc:title>
</cp:coreProperties>
</file>